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FD1-210B-4E6D-8AB8-B51F634F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9CE-9926-4B23-960A-69356548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7812-2AFA-468D-B971-77CFBC9C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C165-5C7A-49B6-9FCA-850F719C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79D-7221-4CE8-AC83-BF39E1F1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3647-1A58-4FC3-B096-F079BA76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C349-A867-43C9-8976-DC5B1821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3985-1DDB-4B59-AF7F-FB5D35AD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25F-5F4D-482D-BA5A-6FE245D7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3C3-57C1-4F8A-BCE3-FA6A66B9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4138-3777-4A40-81CF-FF24DFD6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269F-3DA4-4654-86ED-0F7CBE5E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E5AF-911A-4F35-821A-132A2D619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Prayer of Confession (SLD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Merciful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ur maker and our judg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sinned against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ought, word, and de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t loved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our whole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have not loved our neighbou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ourselve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repent, and are sor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all our s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ather, forgiv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trengthen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love and obey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newness of lif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Jesus Christ our Lord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he leader says a scripture sentence, and then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ar then Christ’s word of gr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u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Your sins are forgiven.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s be to G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ark 2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095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Prayer © 1999, </a:t>
            </a:r>
            <a:r>
              <a:rPr b="0" i="1" lang="en-US" sz="1800" spc="-1" strike="noStrike">
                <a:solidFill>
                  <a:srgbClr val="bbe0e3"/>
                </a:solidFill>
                <a:latin typeface="Arial Narrow"/>
              </a:rPr>
              <a:t>An Australian Prayer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0:08:27Z</dcterms:created>
  <dc:creator>Anon Anon</dc:creator>
  <dc:description/>
  <dc:language>en-US</dc:language>
  <cp:lastModifiedBy>Anon Anon</cp:lastModifiedBy>
  <dcterms:modified xsi:type="dcterms:W3CDTF">2005-08-16T04:22:44Z</dcterms:modified>
  <cp:revision>15</cp:revision>
  <dc:subject/>
  <dc:title>PowerPoint Presentation</dc:title>
</cp:coreProperties>
</file>